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A208-A67B-4F3E-83E3-266F533E82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869B-D258-498A-9E47-17105A6431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B567-23ED-4548-B6CF-1C4B529453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B32E-D50F-477B-B520-9B131CA4FE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F4E4-0B3E-422D-851A-CED0753B8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F8F-A9AE-48DA-B4CA-E4B4734A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32D-64C7-47E1-969A-4001CDC6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78D-4EE0-4C43-9DB4-AD49B29E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24A-7031-4828-83FF-10B1D3B4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D20C-B8BB-4855-B22B-C41864B5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9922-CAC6-4228-9D18-B1BD010E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4D9C-58E8-4311-A453-BAEA65B1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5D2A-37AC-4589-86EA-61DC6F7E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A679-9E21-4853-B24F-66A23678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DF8F-FC31-43C0-84C9-3515B8DE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7061-7226-43FD-B914-FEA2681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6EA-26A8-4834-AEC3-195A2D01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4734-CEEC-48D1-A584-2CCFFB26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3B2-D121-457D-AA9D-892348FA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362B-4CDA-4464-A8B9-84799B2A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A25-71B4-4A48-BE98-87EC13FD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03CA-AE74-4294-8B07-157571B1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88C0-0F19-4F46-B35E-E3BDEB84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0314-6C21-4A65-BE0E-09AFECC2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E2FC-4F69-4698-9991-A2AAE6F4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3BD6-E4F5-413F-B5FF-99BEDB7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82B79-5D15-4DA0-88B8-7CC87028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783-4211-4067-A5A6-2275302D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BEAE-8198-4971-9757-57B857C8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EAA4-898A-4D4E-8F6C-9A8F28F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C6C4-13E6-4CD8-9837-93D387D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F945-3375-4772-A928-A9EFD10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1573-BC66-434C-B09B-0AFB596B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E79C8-9D7F-4B96-9482-4038C598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9897-84DA-434B-8826-C748A90F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CC033-4B4C-4B71-ADB1-C9CBE9ED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BA7D-8CD0-4591-9F0E-DEA4A784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3EC2-E662-49F6-9819-0671C230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A5B-CEEA-4601-9AD3-D5663542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5C545-92C0-462D-86BF-9414A37D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AA5D-7F2A-479A-BFA3-F895BB5E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744F-DBFA-4100-AA73-CF40FAD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D8F2-1BBC-4D58-8892-82D87438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3E87-75E3-4E56-8597-FB395F3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6158-390B-4BDB-B886-961DA8A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808A4-081A-4A70-BB97-BF01856D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F5CE5-DB5F-4A1A-A549-EF340885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F3178-42AE-4688-8F76-E6862D78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177-D12E-446E-BC27-0CE2D593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AD9C-ED89-4D0F-B0DD-56DAD51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9A2-1EB1-43ED-81F5-3DA81996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2E87-3210-4975-A538-1BB97993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073-110B-4AD6-9C31-CA38920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10A-3EF1-4763-9E6D-96695B823DE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A3B0-5B40-4E3D-9CF8-7B6E8016764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8DAF-0F8F-49F3-9BB3-97B3BBE7D11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D8BF-24F1-4767-B97E-2370EBDDAAC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55160" y="1419120"/>
            <a:ext cx="7945560" cy="45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Постоянно действующий семинар для родителей, специалистов учреждений, организаций города по решению остро возникающих вопросов в сфере профилактики безнадзорности, правонарушений, антиобщественных действий несовершеннолетних, защите их прав» </a:t>
            </a:r>
            <a:br>
              <a:rPr sz="2800"/>
            </a:b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21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04880" y="22536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803680" y="4381560"/>
            <a:ext cx="619740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Объект 1" descr=""/>
          <p:cNvPicPr/>
          <p:nvPr/>
        </p:nvPicPr>
        <p:blipFill>
          <a:blip r:embed="rId1"/>
          <a:stretch/>
        </p:blipFill>
        <p:spPr>
          <a:xfrm>
            <a:off x="1384200" y="73080"/>
            <a:ext cx="7570800" cy="3408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6"/>
          <p:cNvSpPr/>
          <p:nvPr/>
        </p:nvSpPr>
        <p:spPr>
          <a:xfrm>
            <a:off x="1001880" y="3736800"/>
            <a:ext cx="79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личие оснований, предусмотренных ч.1 ст.5 Закона № 120-ФЗ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нахождение несовершеннолетнего в обстановке, представляющей опасность (угрозу) для его жизни и (или) здоровья в связи с отсутствием контроля за его поведением вследствие неисполнения или ненадлежащего исполнения обязанностей по его воспитанию, обучению и (или) содержанию со стороны родителей или иных законных представителей либо должностных лиц, либо в связи с отсутствием у него места жительства и (или) места преб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6"/>
          <p:cNvSpPr/>
          <p:nvPr/>
        </p:nvSpPr>
        <p:spPr>
          <a:xfrm>
            <a:off x="1301760" y="1038240"/>
            <a:ext cx="736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в течение календарного года повторного самовольного ухода из семьи, учреждения системы профилакти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суицидальной попыт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возбуждение уголовного дела в отношении родителей либо одного                                       из родителей (законных представителей) несовершеннолетнего в связи с совершением в отношении него умышленного преступ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овершение родителями, иными законными представителями действий, свидетельствующих о жестоком обращении с несовершеннолетним, выражающееся, в частности, в осуществлении физического или психического насилия над ними, в покушении на их половую неприкосновен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влечение родителей либо одного из родителей (законных представителей) несовершеннолетних к административной ответственности в соответствии  с ч.1 ст.5.35, ч.1 ст.5.35.1,                   ст. 5.61, ст.6.1.1, ч.2 ст.6.10, ч.2 ст.6.23 КоАП РФ, при наличии фактов систематического нарушения прав и законных интересов ребенка, в следствии длительного непрекращающегося невыполнения или ненадлежащего выполнения обязанностей по воспитанию, содержанию и обучению де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6"/>
          <p:cNvSpPr/>
          <p:nvPr/>
        </p:nvSpPr>
        <p:spPr>
          <a:xfrm>
            <a:off x="1284120" y="1197000"/>
            <a:ext cx="736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совершение родителями, законными представителями несовершеннолетнего действий, по вовлечению последних                                  в противоправные или антиобщественные действ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тическое употребление родителями либо одним из родителей или иными законными представителями, либо одним из законных представителей несовершеннолетних наркотических средств, психотропных и одурманивающих веществ, а также алкогольной и спиртосодержаще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иные обстоятельства, в случае необходимости предупреждения правонару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 выявлении несовершеннолетнего, права и законные интересы которого нарушены, находящегося в социально опасном положении, иной трудной жизненной ситуации, направляется в комиссию, управление по опеке и попечительству Администрации города, при необходимости в  соответствующие органы и учреждения системы профилактики по форме согласно приложению 3 к Регламенту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незамедлительно (в течение суток)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росы в органы и учреждения системы профилактики, иные заинтересованные организации с целью подготовки информации на заседание комиссии, для принятия коллегиального решения о целесообразности признания  несовершеннолетнего и (или) семьи, находящимся в социально опасном положении, и проведении индивидуальной профилактической работы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правляется в субъекты профилактики не позднее 3 рабочих дней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формация органов и учреждений системы профилактики о ребенке и членах его семьи по запросам  управления по опеке и попечительству  и комиссии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6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 не позднее 3 рабочих дней с даты поступления запро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оверки информации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69520" y="1596960"/>
            <a:ext cx="83790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, организует обследование условий проживания выявленного ребенка и его семьи с целью оценки степени риска нарушения прав и законных интересов ребенка и готовит акт обслед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и 3 дней с даты поступления сообще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итогам обследования условий жизни ребенка и его семьи управление  по опеке  и попечительству готовит заключение для организации индивидуальной профилактической работы в отношении ребенка и его семьи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готовится в течении 7 рабочих дней с даты поступления сведений о ребёнк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ts val="1562"/>
              </a:lnSpc>
              <a:spcBef>
                <a:spcPts val="26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5400" y="184320"/>
            <a:ext cx="68072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принятия решений по фактам нарушения прав детей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3840" y="1298160"/>
            <a:ext cx="858996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15 календарных дней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 дня получения информации                 о выявлении несовершеннолетнего и(или) членов его семьи, находящихся                                   в социально опасном положении, и иной трудной жизненной ситуации, заключения органа опеки, документов, предусмотренных ст. 6 Закона № 120-ФЗ, коллегиально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имает постановление об организации индивидуальной профилактической работы и (или) социального сопровождения семьи в отношении несовершеннолетнего и членов его семьи, признании несовершеннолетнего и (или) членов его семьи, находящимся в социально опасном положе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убъекты системы профилактики – участников индивидуальной профилактической работы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перечень неотложных мероприятий с несовершеннолетними                           и (или) членами их семей, находящимися в социально опасном положении, сформированных с учётом предложений (в пределах компетенции) субъектов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 учреждения системы профилактики, определённые постановлением комиссии участниками реализации ИПР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в адрес комиссии и органов, учреждений системы профилактики, определенных постановлением комиссии участниками реализации ИПР, согласно приложению 7 к Регламенту  (данные исполнителя -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ИО (полностью), наименования должности, контактного телефон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перечень мероприятий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течение 10 рабочих дней, со дня получения копии постановления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правляют участника межведомственной рабочей группы в Отдел (каб.1, ул. Магистральная, 22) для выработки межведомственной ИПР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и, указанные в постановлениях коми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аствуют в определении ответственного исполнителя за подготовку ИПР и  срока предоставления ИПР в адрес Отдел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а заседании межведомственной рабочей группы, дата, место и время проведения  которой указывается в постановлении об организации ИПР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лгоритм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позднее 30 дней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о дня принятия постановления о признании несовершеннолетнего и (или) членов его семьи, находящимся в социально опасном положении, постановлением очередного заседания комисси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тверждает ИПР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иложение 11 к Регламенту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начает ответственного исполнителя (учреждение (орган)                                     за ознакомление несовершеннолетних и членов их семьи с ИПР,                             их персональное сопровождение, обобщение результатов межведомственной работы, подготовку аналитической информации о ходе исполнения ИПР     (не реже 1 раза в три месяца), а также подготовку заключения                                   по результатам реализации индивидуальной профилактической работы для направления в комиссию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яет сроки предоставления итоговой информации в адрес                          ответственного исполнителя  и заключения по результатам реализации ИПР в адрес отдела по организации работы комиссии по делам несовершеннолетних, защите 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5920" y="315720"/>
            <a:ext cx="6807240" cy="58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Сроки 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84240" y="1193400"/>
            <a:ext cx="80186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ндивидуальная профилактическая работа с несовершеннолетним                            и (или)членами его семьи организуется на период, необходимый                                 на реализацию мероприятий, направленных на устранение причин                            и условий, обусловивших положение несовершеннолетнего                                               и (или) семьи как социально опасно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менее 6 месяце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ценка эффективности реализации ИПР осуществляется по мере необходимости, но </a:t>
            </a: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не реже одного раза в квартал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заседании комиссии, по результатам которого выносится одно из следующих решений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несении изменений и дополнений в ИПР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прекращении индивидуальной профилактической работы                                     и исключении несовершеннолетнего и (или) членов его семьи из Реестра,                    с указанием оснований исключе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сборе документов для направления в судебные органы искового заявления  о лишении либо ограничении родительских пра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 прекращении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ую информацию исполнители реализации ИПР направляют                   в адрес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тветственного исполнителя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электронном виде                                             в формате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word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pdf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 подписью руководител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в срок, утверждённый постановлением комиссии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тоговыми документами являютс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налитический отчёт о реализации мероприятий ИПР </a:t>
            </a:r>
            <a:r>
              <a:rPr b="1" lang="en-US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 мотивированными предложениями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продолжении либо завершения ИПР в соответствии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0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ложением12 </a:t>
            </a:r>
            <a:r>
              <a:rPr b="1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 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ламент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уальный акт обследования условий жизни несовершеннолетнего и его семьи (для УМВД России по г. Сургута и Управления по опеке и попечительству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04520" y="1415880"/>
            <a:ext cx="8273880" cy="313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9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б исполнении требований Регламента межведомственного взаимодействия субъектов системы профилактики безнадзорности                                                  и правонарушений несовершеннолетних и иных органов и организаций                                  в муниципальном образовании городской округ город Сургут при выявлении, учёте, организации и проведении индивидуальной профилактической работы  с несовершеннолетними и (или) семьями, находящимися в социально опасном положении и иной трудной жизненной ситуации (утверждённого постановлением комиссии от  05.12.2019  № 19-5-56 (с изменениями от 26.02.2021 </a:t>
            </a:r>
            <a:br>
              <a:rPr sz="2000"/>
            </a:b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тановление № 5-3-1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04880" y="74520"/>
            <a:ext cx="74563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ГОРОДА СУРГУТ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я по делам  несовершеннолетних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щите их пра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2622600" y="5873760"/>
            <a:ext cx="3127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685960" y="4551480"/>
            <a:ext cx="6292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 fontScale="90000"/>
          </a:bodyPr>
          <a:p>
            <a:pPr marL="24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1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азанова Валентина Николаевна – заместитель начальника отдела по организации работы комиссии по делам  несовершеннолетних, защите их прав, член комиссии по делам несовершеннолетних и защите их прав при Администрации города Сургут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3594600" y="59691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марта 202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: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ую записку с общим анализом достигнутых результатов профилактической работы с семьей,                           с оценкой эффективности/не эффективности проведенной раб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об устранении (сохранении) социально опасного опасного положения несовершеннолетнего и (или) членов его семь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ия о проведении дальнейшей профилактической работы с несовершеннолетним                      и членами его семь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у для утверждения на новый период, с предложением о продолжении ИП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33520" y="315720"/>
            <a:ext cx="731520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Аналитический отчёт должен содержать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10880" y="1068120"/>
            <a:ext cx="794700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 необходимости продолжения проведения индивидуальной профилактической работы (в этом случае предоставляя данные должностного лица, ответственного за проведение индивидуальной профилактической работы  с семьей, с указанием ФИО (полностью), наименования должности, контактного телефона, перечень планируемых мероприятий в рамках ИПР, необходимости включения нового исполнителям, не определенного постановлением комиссии ране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о завершении индивидуальной профилактической работы                            с указанием оснований ( положительная реабилитация, и др.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об исключении из числа участников реализации ИПР (с указанием оснований для исключения, это может  быть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сполнение органом или учреждением мероприятий ИПР с положительным результатом , если повторное их проведение не требуется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тказ родителей (иных законных представителей) от проведения индивидуальной профилактической работы (п.5.5.2. настоящего Регламента), иное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ключительный этап реализации ИПР </a:t>
            </a:r>
            <a:br>
              <a:rPr sz="2800"/>
            </a:b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53680" y="1193760"/>
            <a:ext cx="84488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ветственный исполнитель на основании представленных аналитических отчётов готовит заключение и направляет его в адрес заместителя председателя комиссии (начальника Отдела) и на адрес электронной почты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onstantinova_ol@admsurgut.r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50480" y="315720"/>
            <a:ext cx="8093160" cy="89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Ответственность за нарушение сроков реализации ИПР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3680" y="1193400"/>
            <a:ext cx="8448840" cy="52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факта неисполнения в указанные сроки органами и учреждениями системы постановления об организациии проведении индивидуальной профилактической работы                                 с несовершеннолетним и (или)членами их семей, находящимися                   в социально опасном положении, комиссия инициирует перед руководителями вопрос о привлечении виновных лиц                                     к дисциплинарной ответствен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установлении признаков административного правонарушения, предусмотренного ст.6 Закона Ханты-Мансийского автономного округа – Югры от 11.06.2010 № 102-оз «Об административных правонарушениях» комиссия вправе направить соответствующие материалы в прокуратуру город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44640" y="240840"/>
            <a:ext cx="7789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3" name="Группа 5" descr=""/>
          <p:cNvPicPr/>
          <p:nvPr/>
        </p:nvPicPr>
        <p:blipFill>
          <a:blip r:embed="rId1"/>
          <a:stretch/>
        </p:blipFill>
        <p:spPr>
          <a:xfrm>
            <a:off x="414360" y="865080"/>
            <a:ext cx="852156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5" name="Группа 5" descr=""/>
          <p:cNvPicPr/>
          <p:nvPr/>
        </p:nvPicPr>
        <p:blipFill>
          <a:blip r:embed="rId1"/>
          <a:stretch/>
        </p:blipFill>
        <p:spPr>
          <a:xfrm>
            <a:off x="371520" y="1231920"/>
            <a:ext cx="8778960" cy="5576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6640" y="240840"/>
            <a:ext cx="77900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ятийный аппарат</a:t>
            </a:r>
            <a:br>
              <a:rPr sz="32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7" name="Группа 5" descr=""/>
          <p:cNvPicPr/>
          <p:nvPr/>
        </p:nvPicPr>
        <p:blipFill>
          <a:blip r:embed="rId1"/>
          <a:stretch/>
        </p:blipFill>
        <p:spPr>
          <a:xfrm>
            <a:off x="463680" y="1517760"/>
            <a:ext cx="8686800" cy="5290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747360" y="1290240"/>
            <a:ext cx="81234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лиц, в отношении которых проводится индивидуальная профилактическая работа, включенных в реестр, находящихся в СОП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квартально в срок не позднее 10 числа следующего                                                  за отчётным периодом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"/>
              <a:tabLst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ерка данных об исполнении постановлений комиссии в рамках реализации ИПР с несовершеннолетними и членами их семей                             за прошедший меся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ы Отдела по организации работы комиссии по делам несовершеннолетних, защите их пра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 позднее 10 числа каждого месяц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уководители органов и учреждений системы профилакт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ечение 3 рабочих дней с момента получения запроса о сверк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1247760" y="228600"/>
            <a:ext cx="62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мые органами системы профилактики сверки в рамках Регла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3800" y="104400"/>
            <a:ext cx="6646680" cy="106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1" i="1" lang="ru-RU" sz="2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Номера телефонов служб, занимающихся защитой прав несовершеннолетних: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00280" y="1170000"/>
            <a:ext cx="8053200" cy="53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иссия по делам несовершеннолетних </a:t>
            </a:r>
            <a:br>
              <a:rPr sz="1800"/>
            </a:b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защите их прав при Администрации города Сургута                                  (Детская общественная приемная)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363859,  363858,  351811,  355091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3462) 522857,  522833,  25285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куратура города Сургута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 3462) 219901,  219955,  219945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телефон вызова экстренных служб ( полиции, пожарной охраны, скорой помощи и службы спасения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12 (круглосуточно, с любого телефона бесплат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диный общероссийский номер Детского телефона довер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-800-2000-122 ( бесплатно, анонимно, круглосуточно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50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611280" y="25210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dmsurgut.ru/rubric/23868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Cyr"/>
              </a:rPr>
              <a:t>Reglament-mezhvedomstvennogo-vzaimodeystviya-subekt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83880" y="11998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СЫЛКА НА РЕГЛАМЕНТ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30400" y="49320"/>
            <a:ext cx="74232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заимоинформирования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1840" y="596520"/>
            <a:ext cx="8434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явлении случаев, предусмотренных ст.9 Закона № 120-ФЗ, а также Постановлением Правительства                          ХМАО – Югры от 02.09.2009 №232-п, субъекты системы профилактики направляют информацию в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окуратуру города Сургут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нарушении прав и свобод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миссию по делам несовершеннолетних и защите их прав </a:t>
            </a:r>
            <a:r>
              <a:rPr b="1" lang="ru-RU" sz="1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ных случаях нарушения прав несовершеннолетних на образование, труд, отдых, жилище и других прав, а также о недостатках в деятельности органов и учреждений, препятствующих предупреждению безнадзорности и правонарушений несовершеннолетни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по опеке и попечительству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оставшихся без попечения родителей или иных законных представителей, либо находящихся в обстановке, представляющей угрозу их жизни, здоровью или препятствующей их воспитанию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социальной защиты населения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уждающихся в помощи государства в связи с безнадзорностью или беспризорностью, в связи с самовольным уходом из детских домов, других детских учреждений, совершением неоднократных самовольных уходов, суицидальных попыток, систематическим агрессивным поведением, а также о выявле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,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ящихся в социально опасном положени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ВД России по г. Сургуту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родителей несовершеннолетних или иных их законных представителей и иных лиц, жестоко обращающихся с несовершеннолетними и (или) вовлекающих их в совершение преступления или антиобщественных действий, или совершающих по отношению к ним другие противоправные деяния, а также о несовершеннолетних, совершивших правонарушение или антиобщественные действия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юджетное учреждение Ханты-Мансийского автономного округа – Югры «Сургутская клиническая психоневрологическая больница»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- о выявлении несовершеннолетних, нуждающихся в обследовании, наблюдении или лечении в связи с употреблением алкогольной и спиртосодержащей продукции, пива и напитков, изготавливаемых на его основе, наркотических средств, психотропных или одурманивающих вещест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партамент образования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уждающихся в помощи государства в связи с прекращением по неуважительным причинам занятий в образовательных организац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правление физической культуры и спорта, комитет по культуре и туризму, отдел молодежной политики Администрации города Сургута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ыявлении несовершеннолетних, находящихся в социально опасном положении, иной трудной жизненной ситуации, и нуждающихся в этой связи в оказании помощи в организации отдыха, досуга, занят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зенное учреждение Ханты-Мансийского автономного округа - Югры «Сургутский центр занятости населения» 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 выявлении несовершеннолетних, находящихся в социально опасном положении, иной трудной жизненной ситуации, и нуждающихся в этой связи в профессиональной ориентации, профессиональном обучении и содействии </a:t>
            </a: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трудовом устройстве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3510000"/>
                <a:tab algn="l" pos="657072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0720" y="221760"/>
            <a:ext cx="634860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орма информирования о чрезвычайном происшествии с несовершеннолетним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58760" y="1122480"/>
            <a:ext cx="749952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общение по предлагаемой форме направляется в адрес председателя комиссии незамедлительно с момента выявления (установления) факта чрезвычайного происшествия, копия - в отдел по организации работы  комиссии по делам несовершеннолетних, защите их прав Администрации города (в том числе в формате word), в случае: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гибели ребенка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жизни и здоровья несовершеннолетних, в том числе факты жестокого обращения со стороны родителей (законных представителей), должностных лиц и иных взрослых лиц,  а также в случае принятия решения о помещении несовершеннолетних, подвергшихся жёсткому обращению,                                в учреждения системы профилактики безнадзорности                                    и правонарушений несовершеннолетних;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овершения действий против половой неприкосновенности и половой свободы несовершеннолетних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суицидальных попыток (завершенных, незавершенных)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49e39"/>
              </a:buClr>
              <a:buSzPct val="8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Times New Roman"/>
                <a:ea typeface="Angsana New"/>
              </a:rPr>
              <a:t>травм, увечья, в результате которых несовершеннолетний получил тяжкий либо средний вред здоровью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71680" y="1633680"/>
            <a:ext cx="837072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ганам и учреждениям системы профилактики безнадзорности и правонарушений несовершеннолетних города в соответствии с частью 2 статьи 9 Федерального Закона № 120-ФЗ от 24.06.1999 «Об основах системы профилактики безнадзорности и правонарушений несовершеннолетних» обеспечить незамедлительное  информирование председателя комиссии о выявленных (установленных) фактах чрезвычайного происшествия с несовершеннолетними по форме согласно приложению 2 к постановлению комиссии по делам несовершеннолетних и защите их прав при Администрации города Сургута от 23.01.2018 № 1-1-1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65792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лгоритм (порядок)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взаимодействия   при выявлении случаев чрезвычайного происшествия </a:t>
            </a:r>
            <a:br>
              <a:rPr sz="1400"/>
            </a:b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с несовершеннолетними (далее-ЧП) в муниципальном образовании городской округ город Сургут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5" name="Схема 36" descr=""/>
          <p:cNvPicPr/>
          <p:nvPr/>
        </p:nvPicPr>
        <p:blipFill>
          <a:blip r:embed="rId1"/>
          <a:stretch/>
        </p:blipFill>
        <p:spPr>
          <a:xfrm>
            <a:off x="2414520" y="1268280"/>
            <a:ext cx="2138400" cy="106704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35" descr=""/>
          <p:cNvPicPr/>
          <p:nvPr/>
        </p:nvPicPr>
        <p:blipFill>
          <a:blip r:embed="rId2"/>
          <a:stretch/>
        </p:blipFill>
        <p:spPr>
          <a:xfrm>
            <a:off x="304920" y="1262160"/>
            <a:ext cx="2127240" cy="151128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21" descr=""/>
          <p:cNvPicPr/>
          <p:nvPr/>
        </p:nvPicPr>
        <p:blipFill>
          <a:blip r:embed="rId3"/>
          <a:stretch/>
        </p:blipFill>
        <p:spPr>
          <a:xfrm>
            <a:off x="3137040" y="3139920"/>
            <a:ext cx="2869920" cy="5781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37" descr=""/>
          <p:cNvPicPr/>
          <p:nvPr/>
        </p:nvPicPr>
        <p:blipFill>
          <a:blip r:embed="rId4"/>
          <a:stretch/>
        </p:blipFill>
        <p:spPr>
          <a:xfrm>
            <a:off x="4565520" y="1255680"/>
            <a:ext cx="2298960" cy="2090880"/>
          </a:xfrm>
          <a:prstGeom prst="rect">
            <a:avLst/>
          </a:prstGeom>
          <a:ln w="0">
            <a:noFill/>
          </a:ln>
        </p:spPr>
      </p:pic>
      <p:pic>
        <p:nvPicPr>
          <p:cNvPr id="239" name="Схема 38" descr=""/>
          <p:cNvPicPr/>
          <p:nvPr/>
        </p:nvPicPr>
        <p:blipFill>
          <a:blip r:embed="rId5"/>
          <a:stretch/>
        </p:blipFill>
        <p:spPr>
          <a:xfrm>
            <a:off x="6877080" y="1298520"/>
            <a:ext cx="2217600" cy="1249560"/>
          </a:xfrm>
          <a:prstGeom prst="rect">
            <a:avLst/>
          </a:prstGeom>
          <a:ln w="0">
            <a:noFill/>
          </a:ln>
        </p:spPr>
      </p:pic>
      <p:pic>
        <p:nvPicPr>
          <p:cNvPr id="240" name="Схема 48" descr=""/>
          <p:cNvPicPr/>
          <p:nvPr/>
        </p:nvPicPr>
        <p:blipFill>
          <a:blip r:embed="rId6"/>
          <a:stretch/>
        </p:blipFill>
        <p:spPr>
          <a:xfrm>
            <a:off x="2646360" y="3060720"/>
            <a:ext cx="639432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Схема 47" descr=""/>
          <p:cNvPicPr/>
          <p:nvPr/>
        </p:nvPicPr>
        <p:blipFill>
          <a:blip r:embed="rId7"/>
          <a:stretch/>
        </p:blipFill>
        <p:spPr>
          <a:xfrm>
            <a:off x="304920" y="2766960"/>
            <a:ext cx="2262240" cy="108576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49" descr=""/>
          <p:cNvPicPr/>
          <p:nvPr/>
        </p:nvPicPr>
        <p:blipFill>
          <a:blip r:embed="rId8"/>
          <a:stretch/>
        </p:blipFill>
        <p:spPr>
          <a:xfrm>
            <a:off x="4846680" y="3736800"/>
            <a:ext cx="4164120" cy="712800"/>
          </a:xfrm>
          <a:prstGeom prst="rect">
            <a:avLst/>
          </a:prstGeom>
          <a:ln w="0">
            <a:noFill/>
          </a:ln>
        </p:spPr>
      </p:pic>
      <p:pic>
        <p:nvPicPr>
          <p:cNvPr id="243" name="Схема 50" descr=""/>
          <p:cNvPicPr/>
          <p:nvPr/>
        </p:nvPicPr>
        <p:blipFill>
          <a:blip r:embed="rId9"/>
          <a:stretch/>
        </p:blipFill>
        <p:spPr>
          <a:xfrm>
            <a:off x="281160" y="4095720"/>
            <a:ext cx="3620880" cy="2701800"/>
          </a:xfrm>
          <a:prstGeom prst="rect">
            <a:avLst/>
          </a:prstGeom>
          <a:ln w="0">
            <a:noFill/>
          </a:ln>
        </p:spPr>
      </p:pic>
      <p:pic>
        <p:nvPicPr>
          <p:cNvPr id="244" name="Схема 51" descr=""/>
          <p:cNvPicPr/>
          <p:nvPr/>
        </p:nvPicPr>
        <p:blipFill>
          <a:blip r:embed="rId10"/>
          <a:stretch/>
        </p:blipFill>
        <p:spPr>
          <a:xfrm>
            <a:off x="3925800" y="4522680"/>
            <a:ext cx="5168880" cy="245772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низ 52"/>
          <p:cNvSpPr/>
          <p:nvPr/>
        </p:nvSpPr>
        <p:spPr>
          <a:xfrm>
            <a:off x="3497400" y="2327400"/>
            <a:ext cx="223560" cy="7412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53"/>
          <p:cNvSpPr/>
          <p:nvPr/>
        </p:nvSpPr>
        <p:spPr>
          <a:xfrm>
            <a:off x="5753160" y="3084480"/>
            <a:ext cx="253800" cy="165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низ 54"/>
          <p:cNvSpPr/>
          <p:nvPr/>
        </p:nvSpPr>
        <p:spPr>
          <a:xfrm>
            <a:off x="7954920" y="2549520"/>
            <a:ext cx="206280" cy="5191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55"/>
          <p:cNvSpPr/>
          <p:nvPr/>
        </p:nvSpPr>
        <p:spPr>
          <a:xfrm>
            <a:off x="6775560" y="3656160"/>
            <a:ext cx="207720" cy="1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низ 56"/>
          <p:cNvSpPr/>
          <p:nvPr/>
        </p:nvSpPr>
        <p:spPr>
          <a:xfrm>
            <a:off x="982800" y="2579760"/>
            <a:ext cx="163440" cy="2142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трелка вниз 57"/>
          <p:cNvSpPr/>
          <p:nvPr/>
        </p:nvSpPr>
        <p:spPr>
          <a:xfrm>
            <a:off x="1055520" y="3851280"/>
            <a:ext cx="125640" cy="331920"/>
          </a:xfrm>
          <a:prstGeom prst="downArrow">
            <a:avLst>
              <a:gd name="adj1" fmla="val 50000"/>
              <a:gd name="adj2" fmla="val 4992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трелка вниз 58"/>
          <p:cNvSpPr/>
          <p:nvPr/>
        </p:nvSpPr>
        <p:spPr>
          <a:xfrm rot="17948400">
            <a:off x="3181320" y="3161880"/>
            <a:ext cx="214200" cy="18874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трелка вниз 59"/>
          <p:cNvSpPr/>
          <p:nvPr/>
        </p:nvSpPr>
        <p:spPr>
          <a:xfrm rot="7341600">
            <a:off x="2700720" y="2167560"/>
            <a:ext cx="209880" cy="1185840"/>
          </a:xfrm>
          <a:prstGeom prst="downArrow">
            <a:avLst>
              <a:gd name="adj1" fmla="val 50000"/>
              <a:gd name="adj2" fmla="val 4990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343080" y="193680"/>
            <a:ext cx="87166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Объект 1" descr=""/>
          <p:cNvPicPr/>
          <p:nvPr/>
        </p:nvPicPr>
        <p:blipFill>
          <a:blip r:embed="rId1"/>
          <a:stretch/>
        </p:blipFill>
        <p:spPr>
          <a:xfrm>
            <a:off x="542880" y="1835280"/>
            <a:ext cx="8551800" cy="4906800"/>
          </a:xfrm>
          <a:prstGeom prst="rect">
            <a:avLst/>
          </a:prstGeom>
          <a:ln w="0">
            <a:noFill/>
          </a:ln>
        </p:spPr>
      </p:pic>
      <p:sp>
        <p:nvSpPr>
          <p:cNvPr id="255" name="Полилиния 5"/>
          <p:cNvSpPr/>
          <p:nvPr/>
        </p:nvSpPr>
        <p:spPr>
          <a:xfrm>
            <a:off x="2057400" y="131760"/>
            <a:ext cx="6919920" cy="1855800"/>
          </a:xfrm>
          <a:prstGeom prst="pie">
            <a:avLst/>
          </a:prstGeom>
          <a:solidFill>
            <a:srgbClr val="f5c2a3"/>
          </a:solidFill>
          <a:ln cap="rnd"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0480" rIns="150480" tIns="150480" bIns="15048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критериями отнесения ребенка к категории детей, находящихся в трудной жизненной ситуации, при наличии проблем в обеспечении надлежащих условий воспитания и проживания, указанных выше групп детей,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6:00:31Z</dcterms:created>
  <dc:creator>Бовсун Ольга Владимировна</dc:creator>
  <dc:description/>
  <dc:language>en-US</dc:language>
  <cp:lastModifiedBy>Лабазанова Валентина Николаевна</cp:lastModifiedBy>
  <cp:lastPrinted>2019-04-23T06:00:57Z</cp:lastPrinted>
  <dcterms:modified xsi:type="dcterms:W3CDTF">2021-03-12T07:05:08Z</dcterms:modified>
  <cp:revision>551</cp:revision>
  <dc:subject/>
  <dc:title>Слайд 1</dc:title>
</cp:coreProperties>
</file>